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87B-3946-4C4F-9880-24CA5AB2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stronomers.net/gs4-lifescience/animal-kingdom-post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hicksvilleschools.org/groups/hsbiology/wiki/18f5d/Comparative_Anatomy_Proje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10 of the 17 major phyla of the Animal Kingdom, like Figure 5 on page 98 of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sa.edu.au/echinoder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ighered.mheducation.com/olcweb/cgi/pluginpop.cgi?it=jpg::640::480::/sites/dl/free/0072919345/63804/0623l.jpg::Phylogenetic%20tree%20of%20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Animal_diversity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ademic.reed.edu/biology/courses/BIO342/2011_syllabus/2011_websites/CWEFEL_cephalopods/phylogen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ps.pearsoncustom.com/wps/media/objects/5697/5834441/ebook/htm/0cc6e.htm?18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www.uic.edu/classes/bios/bios100/labs/animaldivers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ochord 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Layers Image from: http://crescentok.com/staff/jaskew/isr/botzo/zoologyintr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ids.britannica.com/comptons/art-166804/Any-animal-that-lacks-a-vertebral-column-or-backbone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aigoodview.com/node/49220?page=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884-FAD4-4A3B-88AD-2AA5C6BB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856-3FED-4851-9E0C-B18979A2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B79-C170-475E-9A9A-3FB7E70C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6F2-8D95-4E47-8AB9-EE7D1BD3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1E8-C0CE-41E9-A4D9-7C32AFE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38F-626F-4A62-B99F-0318D08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45D-D987-4329-A340-C1EEFD75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26B-5BCA-424A-B5EA-300B8A3C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4FA-5AA6-45C3-9058-1E030D8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CFF-7CD7-4395-A963-DF42194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833-8BFA-41C9-81E0-3E086844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973-7D80-4C46-8E5C-9A192D6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3985-F180-49D3-833F-4098F1B4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24200" y="609480"/>
            <a:ext cx="529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a (insects, spiders, lobster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atoda (pinworms, heart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lida (earth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usca (snails, clams, octop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ifera (rotifers - small aquatic anim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yhelminthes (tape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er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nodermata (starfis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2680" y="3200400"/>
            <a:ext cx="7040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ish, amphibians, mammals, reptiles,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73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mo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lex of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08440" y="1523880"/>
            <a:ext cx="3384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food &amp;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oles in ecosystems (e.g., pollin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7969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917800"/>
            <a:ext cx="777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a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st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uterost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46760" y="1981080"/>
            <a:ext cx="141120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97360" y="4114800"/>
            <a:ext cx="171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notoch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germ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1897200"/>
            <a:ext cx="4114800" cy="192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00480" y="411480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8320" y="609480"/>
            <a:ext cx="740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el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dy ca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36960" y="1752480"/>
            <a:ext cx="378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14:31Z</dcterms:created>
  <dc:creator>rubina khan</dc:creator>
  <dc:description/>
  <dc:language>en-US</dc:language>
  <cp:lastModifiedBy>rubina khan</cp:lastModifiedBy>
  <dcterms:modified xsi:type="dcterms:W3CDTF">2015-03-25T02:55:00Z</dcterms:modified>
  <cp:revision>60</cp:revision>
  <dc:subject/>
  <dc:title>The Animals</dc:title>
</cp:coreProperties>
</file>